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21CA-F379-428B-92B8-161AA145D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4746-637F-4A2D-82BD-A4484071F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2A19-F193-4163-8DC3-A658C805B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ED0B-217C-40AB-8C42-7D0A07A0E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A9ABE-9DDA-4D10-AEB2-5B27782B39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CC695-C0FE-47D4-B463-3128D7B6D3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BAD59-473C-4964-9A51-EF30B6D669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5D76E-05D8-4C7C-8149-5D88582334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18115-B474-4096-9B13-F7B27B328B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748C8-E135-4D5A-AEA2-C884AFFA97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1F474-A208-463D-B363-2064899A61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CEBE-9DF6-4A39-AE77-2890589C8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C2173-BE2C-42FB-800B-12C4639C5E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11C1A-6FEE-41C4-BABE-18D9F9078F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7FCEB-81BB-4085-AA31-E64A022717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12AD8-8E38-4A72-B779-31AD16B6F6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AD9A2-95FC-4E74-97A0-885013EEC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A52D-A8C7-4AAB-B4F9-41F1BFD92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27B7E-2E9B-4481-9FE2-B0214DC3B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DDEA-E56D-43E8-A02D-BD69A32EC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8094-71A5-4966-A3B6-9782F3850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96BF-D5A4-4410-8AC5-9D99E13B0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744F5-376F-4D50-B01F-5F46A5E66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D8FC-366B-440B-9A3C-8A0915FF2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3BE0A78-DEFE-46D3-960A-C93EB8A7583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C634500-08E1-4C8E-B8FA-E69B97B9B3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B53E11E-145D-4668-9808-A2E6E498B58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2774102-E63A-4D3C-B08F-ED9227D9383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andling Collinear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regression (Tibshirani, 1996): minimised sum of regression coefficients so that sum tend to and reach zer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 regression (Hoerl and Kennard, 1970) minimises the squares of the regression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astic net regression (Zou and Hastie, 2005) is a hybrid of LASSO ans Ridg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net in R parameter alpha=1 (LASSO), alpha=0 (Ridge) otherwise Elastic n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indi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ssess regression models using fit indices such 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Sum (observed – predicted)^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E = Sum Abs(observed – predic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PE = Sum( [observed – predicted]/predicted) * 1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-squared = 1 - MSE / Total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Kovac et al (2024)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, LASSO, and Elastic Net regression gave very similar model fits on a linear regression of emotional competency (EC), Distress tolerance, cognitive flexibility, alexithymia and childhood trauma (TRAU) to predict internal sha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42920" y="3314880"/>
          <a:ext cx="6481800" cy="2989080"/>
        </p:xfrm>
        <a:graphic>
          <a:graphicData uri="http://schemas.openxmlformats.org/drawingml/2006/table">
            <a:tbl>
              <a:tblPr/>
              <a:tblGrid>
                <a:gridCol w="1838520"/>
                <a:gridCol w="1403280"/>
                <a:gridCol w="1619280"/>
                <a:gridCol w="162072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erf. metric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Ridg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ASSO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lastic Net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S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4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5.8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0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5.37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P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.2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R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3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2.7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6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4-02-14T16:36:22Z</dcterms:modified>
  <cp:revision>323</cp:revision>
  <dc:subject/>
  <dc:title>REGRESSION ANALYSIS</dc:title>
</cp:coreProperties>
</file>